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5759450" cy="7199313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4400" y="-3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938240" y="749160"/>
            <a:ext cx="2981520" cy="372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94467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6760"/>
            <a:ext cx="2973240" cy="500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  <a:defRPr b="0" lang="es-ES_tradnl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A06D93CE-D74A-46EA-B891-CB1C5ECFA359}" type="slidenum"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38240" y="749160"/>
            <a:ext cx="2981520" cy="3726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72248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Marcador de número de diapositiva 3"/>
          <p:cNvSpPr/>
          <p:nvPr/>
        </p:nvSpPr>
        <p:spPr>
          <a:xfrm>
            <a:off x="3884760" y="9447120"/>
            <a:ext cx="2973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E9F88EDE-3145-47A3-B153-98EF0EF57F65}" type="slidenum"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F40-E3FC-4A45-8FD9-28688E6F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2FF-B90C-4265-A85C-F0FEC082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97A-3310-45FF-87A8-43B5ADEC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BCB-16EC-494D-87D0-DC46D633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021F-57D0-4192-B11F-AADA6A14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26E3-11BA-42C6-8CCD-3A133D9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B020-54AE-43B4-9CBE-D77860C9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370F-DD3D-4C66-8990-B9045A1E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8D99-7F92-49D1-B92A-E4A8F866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9AF4-ED52-4DE6-8F4A-9F847325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157-5645-49D8-B75F-F794FED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311-E00A-4119-BB14-FEAC682C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803-A308-45DC-B9B1-A25FBC5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FBA-B312-4609-95AB-FAFCB1A9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2E24-3FC4-42C2-8FED-959647AF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8089-0E51-4301-84D6-F439F0D6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1428-6B48-424B-A645-0E315784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C98B-9756-41D6-A803-99979C9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AF70-CD20-48FC-8143-6C594B9E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416F-8C5A-475D-AC9E-F36DFE1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C8AB-9222-468F-B6AF-57577CE8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A8C0-AC29-40EA-A359-EBC9E59D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E7B-CC37-4287-90D0-248C157E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453E-DB48-42F8-A1BD-13440D74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4C42-0934-4FD5-9107-9E150F5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6EC6-CFDA-45FB-8185-3E96265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4A18-AF7C-4F01-B037-48FCE38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12B8-9629-48D6-8A75-11E4E4DC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FEC0-4FF3-4A2C-A0B3-98EB5EF7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FC1F-3D15-4FA4-B975-25F3C109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5B9F-511B-410D-BF34-7DD4E51B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7A4C-1D75-4241-BA0F-171AEFB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0DBB-F60A-4973-BE39-ABF257B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E8C-6238-40B3-9CFB-BAE26D1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D29E-38B6-47E2-BAD2-41EE5BE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E723-D32C-4E79-ACBA-A6556846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1A50-D5AD-4EAE-93E6-7A034135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356A-9603-454F-B2AE-981E218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D65C-8E94-4A80-9ECD-A4A4C69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F6455-12E7-4186-829C-8C040397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19BC-815D-4B2A-BA47-16C3A13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F8257-5D7A-44E2-ABD4-317BE149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B44E-F027-4D0F-A5D6-D9F66485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A12E-DAB4-4AAE-9CAD-17DB5F64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0C7-4002-4C44-9A4D-B647946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C6BF-B3BD-48F4-98CA-8987476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DC2D-0F90-488E-A4A3-8720248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35EB-CB2D-4AD8-9021-0E8AB80B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1822-6EB7-43B3-AB26-23C419BA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83FF-38E7-43B0-8810-A9E78CF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80B0E-2F2C-45F6-AF62-B1D38423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2941-BEAB-448B-9A81-8AE0410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0C4A-CC0F-46BA-A8FF-029136C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7247-2FF5-4FAB-A196-6A27C22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E1A5-09E8-4F89-A994-093FE100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E97-CF11-408B-AB47-1065939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1ED7-63DE-4DD2-9628-CBF5AEC8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D45B7-A493-4464-BB6D-55FC1EFD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7059-C0BB-474D-AF7B-AC923D50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FCAD-F86E-4CA2-A432-9569617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30AC-43D6-4066-8C10-3B92B6B8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6B73-DB38-4E18-8909-A90ABF34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F93F-5FCF-427C-96AC-797367BF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24BE-724D-4620-B801-D71954B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2FF5-9A90-4748-BDB2-36DBA40E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E43E-3AED-4E17-A3D0-64FD77B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13C-E8C3-4C67-A1B1-503546F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14B17-FB89-47DE-904A-F08645D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888F-B146-41BE-8B06-E7364FE6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06A00-0987-4ADD-A985-D92B7A3E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33CE-9806-459A-B366-A1EF94A5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6C001-120F-4730-B0B1-F5B7BD8C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BC95D-2D4D-46E4-880D-7CF70540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16C0-D5A1-42DC-9A4C-784987EB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BDD6-D6F3-4E17-B02C-998FEA75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368000" y="801360"/>
            <a:ext cx="40165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EBC12-74AB-4C4D-A217-F0FFF04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9F9A9-6A5D-4E0C-8DCA-E268F0D0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2FA-4D84-4B4C-B3C1-6F9E266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C43F-56D7-433E-A22C-5AF22BFE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233F6-A2BF-4465-858B-DAD08E7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1EA70-9543-4CE1-AE0D-C871F96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941920" y="453528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3AB66-B8DD-4170-9FD8-F036B89E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06856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762720" y="230364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7440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06856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3762720" y="4535280"/>
            <a:ext cx="16131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E4638-E1CC-44BF-A5D1-893503CF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40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941920" y="2303640"/>
            <a:ext cx="244476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400" y="4535280"/>
            <a:ext cx="501012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2BA-0E90-459E-92AE-6F51EB6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5759280" cy="113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038480" y="6671880"/>
            <a:ext cx="1346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4400" y="6671880"/>
            <a:ext cx="35780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40000" y="399600"/>
            <a:ext cx="12445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74E-1F17-4024-AB99-D58F91C223FE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5759280" cy="113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3-HD-BTM.png"/>
          <p:cNvPicPr/>
          <p:nvPr/>
        </p:nvPicPr>
        <p:blipFill>
          <a:blip r:embed="rId3"/>
          <a:stretch/>
        </p:blipFill>
        <p:spPr>
          <a:xfrm>
            <a:off x="0" y="5245200"/>
            <a:ext cx="5759280" cy="1954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736800" y="4538520"/>
            <a:ext cx="1446480" cy="3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6000" y="4538520"/>
            <a:ext cx="3073320" cy="3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3816000" y="1501560"/>
            <a:ext cx="136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4B36-F39B-4FE1-8C1A-5E631E7E7DAA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3-HD-BTM.png"/>
          <p:cNvPicPr/>
          <p:nvPr/>
        </p:nvPicPr>
        <p:blipFill>
          <a:blip r:embed="rId2"/>
          <a:stretch/>
        </p:blipFill>
        <p:spPr>
          <a:xfrm>
            <a:off x="0" y="5245200"/>
            <a:ext cx="5759280" cy="1954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503160" y="399600"/>
            <a:ext cx="1374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74400" y="399600"/>
            <a:ext cx="3041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963680" y="399600"/>
            <a:ext cx="420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EA0-ED3D-4230-9A5B-33A3BED849D4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3-HD-BTM.png"/>
          <p:cNvPicPr/>
          <p:nvPr/>
        </p:nvPicPr>
        <p:blipFill>
          <a:blip r:embed="rId2"/>
          <a:stretch/>
        </p:blipFill>
        <p:spPr>
          <a:xfrm>
            <a:off x="0" y="5245200"/>
            <a:ext cx="5759280" cy="1954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3160" y="399600"/>
            <a:ext cx="1374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74400" y="399600"/>
            <a:ext cx="3041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4963680" y="399600"/>
            <a:ext cx="420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0FC3-5DD7-493B-AA99-8DE82B0D5E5C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C3-HD-BTM.png"/>
          <p:cNvPicPr/>
          <p:nvPr/>
        </p:nvPicPr>
        <p:blipFill>
          <a:blip r:embed="rId2"/>
          <a:stretch/>
        </p:blipFill>
        <p:spPr>
          <a:xfrm>
            <a:off x="0" y="5245200"/>
            <a:ext cx="5759280" cy="1954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2"/>
          <p:cNvSpPr/>
          <p:nvPr/>
        </p:nvSpPr>
        <p:spPr>
          <a:xfrm>
            <a:off x="146160" y="847800"/>
            <a:ext cx="28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Arial Black"/>
              </a:rPr>
              <a:t>“</a:t>
            </a:r>
            <a:endParaRPr b="1" i="1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5130720" y="3171960"/>
            <a:ext cx="28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1" i="1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503160" y="399600"/>
            <a:ext cx="1374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74400" y="398160"/>
            <a:ext cx="3041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963680" y="399600"/>
            <a:ext cx="420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B059-1E51-4B67-BE48-45B8F88E537C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3-HD-BTM.png"/>
          <p:cNvPicPr/>
          <p:nvPr/>
        </p:nvPicPr>
        <p:blipFill>
          <a:blip r:embed="rId2"/>
          <a:stretch/>
        </p:blipFill>
        <p:spPr>
          <a:xfrm>
            <a:off x="0" y="5245200"/>
            <a:ext cx="5759280" cy="1954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3503160" y="398160"/>
            <a:ext cx="1374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74400" y="398160"/>
            <a:ext cx="3041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4963680" y="399600"/>
            <a:ext cx="420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292-F02A-44A6-8431-C0B9E75C799F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C3-HD-BTM.png"/>
          <p:cNvPicPr/>
          <p:nvPr/>
        </p:nvPicPr>
        <p:blipFill>
          <a:blip r:embed="rId2"/>
          <a:stretch/>
        </p:blipFill>
        <p:spPr>
          <a:xfrm>
            <a:off x="0" y="5245200"/>
            <a:ext cx="5759280" cy="1954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8000" y="801360"/>
            <a:ext cx="4016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74400" y="2303640"/>
            <a:ext cx="50101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92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1" marL="431640" indent="-142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2" marL="719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3" marL="100656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295280" indent="-142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3503160" y="399600"/>
            <a:ext cx="1374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74400" y="399600"/>
            <a:ext cx="3041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4963680" y="399600"/>
            <a:ext cx="420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PE" sz="6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FD9-9C61-485D-983C-D34899E2BA59}" type="slidenum">
              <a:rPr b="1" i="1" lang="es-PE" sz="6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hyperlink" Target="mailto:icanorio@mef.gob.pe" TargetMode="External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5"/>
          <p:cNvSpPr/>
          <p:nvPr/>
        </p:nvSpPr>
        <p:spPr>
          <a:xfrm>
            <a:off x="720720" y="332892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Rectangle 26"/>
          <p:cNvSpPr/>
          <p:nvPr/>
        </p:nvSpPr>
        <p:spPr>
          <a:xfrm>
            <a:off x="720720" y="360360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720720" y="332892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720720" y="360360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3125880" y="4815000"/>
            <a:ext cx="171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9" name="12 Imagen" descr="FONDO_MOD_2-01.tif"/>
          <p:cNvPicPr/>
          <p:nvPr/>
        </p:nvPicPr>
        <p:blipFill>
          <a:blip r:embed="rId1"/>
          <a:stretch/>
        </p:blipFill>
        <p:spPr>
          <a:xfrm>
            <a:off x="0" y="-73080"/>
            <a:ext cx="5759280" cy="71294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5"/>
          <p:cNvSpPr/>
          <p:nvPr/>
        </p:nvSpPr>
        <p:spPr>
          <a:xfrm>
            <a:off x="2787480" y="332892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2787480" y="360360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2787480" y="332892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Rectangle 28"/>
          <p:cNvSpPr/>
          <p:nvPr/>
        </p:nvSpPr>
        <p:spPr>
          <a:xfrm>
            <a:off x="2787480" y="3603600"/>
            <a:ext cx="184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Rectangle 25"/>
          <p:cNvSpPr/>
          <p:nvPr/>
        </p:nvSpPr>
        <p:spPr>
          <a:xfrm>
            <a:off x="3125880" y="4815000"/>
            <a:ext cx="171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15" name="CuadroTexto 4"/>
          <p:cNvGrpSpPr/>
          <p:nvPr/>
        </p:nvGrpSpPr>
        <p:grpSpPr>
          <a:xfrm>
            <a:off x="1305000" y="2835360"/>
            <a:ext cx="3638520" cy="1030320"/>
            <a:chOff x="1305000" y="2835360"/>
            <a:chExt cx="3638520" cy="1030320"/>
          </a:xfrm>
        </p:grpSpPr>
        <p:pic>
          <p:nvPicPr>
            <p:cNvPr id="316" name="CuadroTexto 4" descr=""/>
            <p:cNvPicPr/>
            <p:nvPr/>
          </p:nvPicPr>
          <p:blipFill>
            <a:blip r:embed="rId2"/>
            <a:stretch/>
          </p:blipFill>
          <p:spPr>
            <a:xfrm>
              <a:off x="1305000" y="2835360"/>
              <a:ext cx="3638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665360" y="2851200"/>
              <a:ext cx="326556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1" i="1" lang="es-MX" sz="1200" spc="-1" strike="noStrike">
                  <a:solidFill>
                    <a:srgbClr val="000000"/>
                  </a:solidFill>
                  <a:latin typeface="Arial Black"/>
                </a:rPr>
                <a:t>INFORMACIÓN PRESUPUESTARIA</a:t>
              </a: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 Black"/>
                </a:rPr>
                <a:t>     </a:t>
              </a:r>
              <a:r>
                <a:rPr b="1" i="1" lang="es-MX" sz="1100" spc="-1" strike="noStrike">
                  <a:solidFill>
                    <a:srgbClr val="000000"/>
                  </a:solidFill>
                  <a:latin typeface="Arial Black"/>
                </a:rPr>
                <a:t>EJERCICIO FISCAL 2015</a:t>
              </a:r>
              <a:endParaRPr b="1" i="1" lang="en-US" sz="1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18" name="CuadroTexto 1"/>
          <p:cNvSpPr/>
          <p:nvPr/>
        </p:nvSpPr>
        <p:spPr>
          <a:xfrm>
            <a:off x="2452680" y="43527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" spc="-1" strike="noStrike">
                <a:solidFill>
                  <a:srgbClr val="000000"/>
                </a:solidFill>
                <a:latin typeface="Arial Black"/>
              </a:rPr>
              <a:t>CPC. ISABEL CANORIO SALCEDO </a:t>
            </a: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" spc="-1" strike="noStrike">
                <a:solidFill>
                  <a:srgbClr val="000000"/>
                </a:solidFill>
                <a:latin typeface="Arial Black"/>
              </a:rPr>
              <a:t>DIRECCIÓN GENERAL DE CONTABILIDAD PÚBLICA</a:t>
            </a: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Imagen 1" descr=""/>
          <p:cNvPicPr/>
          <p:nvPr/>
        </p:nvPicPr>
        <p:blipFill>
          <a:blip r:embed="rId1"/>
          <a:stretch/>
        </p:blipFill>
        <p:spPr>
          <a:xfrm>
            <a:off x="0" y="66600"/>
            <a:ext cx="57592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Imagen 1" descr=""/>
          <p:cNvPicPr/>
          <p:nvPr/>
        </p:nvPicPr>
        <p:blipFill>
          <a:blip r:embed="rId1"/>
          <a:stretch/>
        </p:blipFill>
        <p:spPr>
          <a:xfrm>
            <a:off x="0" y="66600"/>
            <a:ext cx="5759280" cy="7066080"/>
          </a:xfrm>
          <a:prstGeom prst="rect">
            <a:avLst/>
          </a:prstGeom>
          <a:ln w="0">
            <a:noFill/>
          </a:ln>
        </p:spPr>
      </p:pic>
      <p:grpSp>
        <p:nvGrpSpPr>
          <p:cNvPr id="352" name="5 Llamada rectangular redondeada"/>
          <p:cNvGrpSpPr/>
          <p:nvPr/>
        </p:nvGrpSpPr>
        <p:grpSpPr>
          <a:xfrm>
            <a:off x="615960" y="6497640"/>
            <a:ext cx="2352600" cy="774720"/>
            <a:chOff x="615960" y="6497640"/>
            <a:chExt cx="2352600" cy="774720"/>
          </a:xfrm>
        </p:grpSpPr>
        <p:pic>
          <p:nvPicPr>
            <p:cNvPr id="353" name="5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615960" y="6497640"/>
              <a:ext cx="23526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66800" y="6691320"/>
              <a:ext cx="13590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 Black"/>
                </a:rPr>
                <a:t>PIM </a:t>
              </a:r>
              <a:endParaRPr b="1" i="1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 Black"/>
                </a:rPr>
                <a:t>PP-2</a:t>
              </a:r>
              <a:endParaRPr b="1" i="1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55" name="5 Llamada rectangular redondeada"/>
          <p:cNvGrpSpPr/>
          <p:nvPr/>
        </p:nvGrpSpPr>
        <p:grpSpPr>
          <a:xfrm>
            <a:off x="4346640" y="6497640"/>
            <a:ext cx="1517760" cy="793800"/>
            <a:chOff x="4346640" y="6497640"/>
            <a:chExt cx="1517760" cy="793800"/>
          </a:xfrm>
        </p:grpSpPr>
        <p:pic>
          <p:nvPicPr>
            <p:cNvPr id="356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4346640" y="6497640"/>
              <a:ext cx="151776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487760" y="6729480"/>
              <a:ext cx="1233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 Black"/>
                </a:rPr>
                <a:t>8601 (GASTOS)</a:t>
              </a:r>
              <a:endParaRPr b="1" i="1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magen 1" descr=""/>
          <p:cNvPicPr/>
          <p:nvPr/>
        </p:nvPicPr>
        <p:blipFill>
          <a:blip r:embed="rId1"/>
          <a:stretch/>
        </p:blipFill>
        <p:spPr>
          <a:xfrm>
            <a:off x="0" y="66600"/>
            <a:ext cx="5759280" cy="7066080"/>
          </a:xfrm>
          <a:prstGeom prst="rect">
            <a:avLst/>
          </a:prstGeom>
          <a:ln w="0">
            <a:noFill/>
          </a:ln>
        </p:spPr>
      </p:pic>
      <p:grpSp>
        <p:nvGrpSpPr>
          <p:cNvPr id="359" name="5 Llamada rectangular redondeada"/>
          <p:cNvGrpSpPr/>
          <p:nvPr/>
        </p:nvGrpSpPr>
        <p:grpSpPr>
          <a:xfrm>
            <a:off x="1060560" y="6364440"/>
            <a:ext cx="2298600" cy="761760"/>
            <a:chOff x="1060560" y="6364440"/>
            <a:chExt cx="2298600" cy="761760"/>
          </a:xfrm>
        </p:grpSpPr>
        <p:pic>
          <p:nvPicPr>
            <p:cNvPr id="360" name="5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1060560" y="6364440"/>
              <a:ext cx="22986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04920" y="6545160"/>
              <a:ext cx="1359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 Black"/>
                </a:rPr>
                <a:t>PIM </a:t>
              </a:r>
              <a:endParaRPr b="1" i="1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 Black"/>
                </a:rPr>
                <a:t>PP-2</a:t>
              </a:r>
              <a:endParaRPr b="1" i="1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62" name="5 Llamada rectangular redondeada"/>
          <p:cNvGrpSpPr/>
          <p:nvPr/>
        </p:nvGrpSpPr>
        <p:grpSpPr>
          <a:xfrm>
            <a:off x="4346640" y="6497640"/>
            <a:ext cx="1517760" cy="793800"/>
            <a:chOff x="4346640" y="6497640"/>
            <a:chExt cx="1517760" cy="793800"/>
          </a:xfrm>
        </p:grpSpPr>
        <p:pic>
          <p:nvPicPr>
            <p:cNvPr id="363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4346640" y="6497640"/>
              <a:ext cx="151776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87760" y="6729480"/>
              <a:ext cx="12337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 Black"/>
                </a:rPr>
                <a:t>8601 (GASTOS)</a:t>
              </a:r>
              <a:endParaRPr b="1" i="1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Imagen 3" descr=""/>
          <p:cNvPicPr/>
          <p:nvPr/>
        </p:nvPicPr>
        <p:blipFill>
          <a:blip r:embed="rId1"/>
          <a:stretch/>
        </p:blipFill>
        <p:spPr>
          <a:xfrm>
            <a:off x="0" y="1079640"/>
            <a:ext cx="56880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Imagen 2" descr=""/>
          <p:cNvPicPr/>
          <p:nvPr/>
        </p:nvPicPr>
        <p:blipFill>
          <a:blip r:embed="rId1"/>
          <a:stretch/>
        </p:blipFill>
        <p:spPr>
          <a:xfrm>
            <a:off x="142920" y="719280"/>
            <a:ext cx="540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Imagen 1" descr=""/>
          <p:cNvPicPr/>
          <p:nvPr/>
        </p:nvPicPr>
        <p:blipFill>
          <a:blip r:embed="rId1"/>
          <a:stretch/>
        </p:blipFill>
        <p:spPr>
          <a:xfrm>
            <a:off x="142920" y="1440000"/>
            <a:ext cx="5473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Imagen 1" descr=""/>
          <p:cNvPicPr/>
          <p:nvPr/>
        </p:nvPicPr>
        <p:blipFill>
          <a:blip r:embed="rId1"/>
          <a:stretch/>
        </p:blipFill>
        <p:spPr>
          <a:xfrm>
            <a:off x="71280" y="1123920"/>
            <a:ext cx="5616720" cy="5356080"/>
          </a:xfrm>
          <a:prstGeom prst="rect">
            <a:avLst/>
          </a:prstGeom>
          <a:ln w="0">
            <a:noFill/>
          </a:ln>
        </p:spPr>
      </p:pic>
      <p:sp>
        <p:nvSpPr>
          <p:cNvPr id="369" name="CuadroTexto 5"/>
          <p:cNvSpPr/>
          <p:nvPr/>
        </p:nvSpPr>
        <p:spPr>
          <a:xfrm>
            <a:off x="69840" y="1295280"/>
            <a:ext cx="21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CuadroTexto 6"/>
          <p:cNvSpPr/>
          <p:nvPr/>
        </p:nvSpPr>
        <p:spPr>
          <a:xfrm>
            <a:off x="38160" y="4475160"/>
            <a:ext cx="21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CuadroTexto 7"/>
          <p:cNvSpPr/>
          <p:nvPr/>
        </p:nvSpPr>
        <p:spPr>
          <a:xfrm>
            <a:off x="27000" y="5627520"/>
            <a:ext cx="21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1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Imagen 1" descr=""/>
          <p:cNvPicPr/>
          <p:nvPr/>
        </p:nvPicPr>
        <p:blipFill>
          <a:blip r:embed="rId1"/>
          <a:stretch/>
        </p:blipFill>
        <p:spPr>
          <a:xfrm>
            <a:off x="142920" y="503280"/>
            <a:ext cx="554508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magen 1" descr=""/>
          <p:cNvPicPr/>
          <p:nvPr/>
        </p:nvPicPr>
        <p:blipFill>
          <a:blip r:embed="rId1"/>
          <a:stretch/>
        </p:blipFill>
        <p:spPr>
          <a:xfrm>
            <a:off x="106200" y="441360"/>
            <a:ext cx="55105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n 1" descr=""/>
          <p:cNvPicPr/>
          <p:nvPr/>
        </p:nvPicPr>
        <p:blipFill>
          <a:blip r:embed="rId1"/>
          <a:stretch/>
        </p:blipFill>
        <p:spPr>
          <a:xfrm>
            <a:off x="106200" y="1079640"/>
            <a:ext cx="5581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Diagrama 3" descr=""/>
          <p:cNvPicPr/>
          <p:nvPr/>
        </p:nvPicPr>
        <p:blipFill>
          <a:blip r:embed="rId1"/>
          <a:stretch/>
        </p:blipFill>
        <p:spPr>
          <a:xfrm>
            <a:off x="-646200" y="2084400"/>
            <a:ext cx="4102200" cy="3017880"/>
          </a:xfrm>
          <a:prstGeom prst="rect">
            <a:avLst/>
          </a:prstGeom>
          <a:ln w="0">
            <a:noFill/>
          </a:ln>
        </p:spPr>
      </p:pic>
      <p:pic>
        <p:nvPicPr>
          <p:cNvPr id="320" name="13 CuadroTexto" descr=""/>
          <p:cNvPicPr/>
          <p:nvPr/>
        </p:nvPicPr>
        <p:blipFill>
          <a:blip r:embed="rId2"/>
          <a:stretch/>
        </p:blipFill>
        <p:spPr>
          <a:xfrm>
            <a:off x="2255760" y="2255760"/>
            <a:ext cx="3664080" cy="2243160"/>
          </a:xfrm>
          <a:prstGeom prst="rect">
            <a:avLst/>
          </a:prstGeom>
          <a:ln w="0">
            <a:noFill/>
          </a:ln>
        </p:spPr>
      </p:pic>
      <p:grpSp>
        <p:nvGrpSpPr>
          <p:cNvPr id="321" name="CuadroTexto 5"/>
          <p:cNvGrpSpPr/>
          <p:nvPr/>
        </p:nvGrpSpPr>
        <p:grpSpPr>
          <a:xfrm>
            <a:off x="2736720" y="5224320"/>
            <a:ext cx="2573640" cy="584640"/>
            <a:chOff x="2736720" y="5224320"/>
            <a:chExt cx="2573640" cy="584640"/>
          </a:xfrm>
        </p:grpSpPr>
        <p:pic>
          <p:nvPicPr>
            <p:cNvPr id="322" name="CuadroTexto 5" descr=""/>
            <p:cNvPicPr/>
            <p:nvPr/>
          </p:nvPicPr>
          <p:blipFill>
            <a:blip r:embed="rId3"/>
            <a:stretch/>
          </p:blipFill>
          <p:spPr>
            <a:xfrm>
              <a:off x="2737800" y="5224320"/>
              <a:ext cx="2570760" cy="5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736720" y="5225760"/>
              <a:ext cx="257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600" spc="-1" strike="noStrike">
                  <a:solidFill>
                    <a:srgbClr val="000000"/>
                  </a:solidFill>
                  <a:latin typeface="Arial Black"/>
                </a:rPr>
                <a:t>MODULO CONTABLE  APLICATIVO WEB.</a:t>
              </a:r>
              <a:endParaRPr b="1" i="1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24" name="Rectángulo redondeado 6" descr=""/>
          <p:cNvPicPr/>
          <p:nvPr/>
        </p:nvPicPr>
        <p:blipFill>
          <a:blip r:embed="rId4"/>
          <a:stretch/>
        </p:blipFill>
        <p:spPr>
          <a:xfrm>
            <a:off x="817560" y="1060560"/>
            <a:ext cx="505296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2 CuadroTexto"/>
          <p:cNvGrpSpPr/>
          <p:nvPr/>
        </p:nvGrpSpPr>
        <p:grpSpPr>
          <a:xfrm>
            <a:off x="3108240" y="3968640"/>
            <a:ext cx="1536840" cy="835200"/>
            <a:chOff x="3108240" y="3968640"/>
            <a:chExt cx="1536840" cy="835200"/>
          </a:xfrm>
        </p:grpSpPr>
        <p:pic>
          <p:nvPicPr>
            <p:cNvPr id="376" name="2 CuadroTexto" descr=""/>
            <p:cNvPicPr/>
            <p:nvPr/>
          </p:nvPicPr>
          <p:blipFill>
            <a:blip r:embed="rId1"/>
            <a:stretch/>
          </p:blipFill>
          <p:spPr>
            <a:xfrm>
              <a:off x="3108240" y="3968640"/>
              <a:ext cx="15368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481200" y="4211640"/>
              <a:ext cx="789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100" spc="-1" strike="noStrike">
                  <a:solidFill>
                    <a:srgbClr val="82650c"/>
                  </a:solidFill>
                  <a:latin typeface="Arial Black"/>
                </a:rPr>
                <a:t>GRACIAS</a:t>
              </a:r>
              <a:r>
                <a:rPr b="1" i="1" lang="es-PE" sz="11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1" i="1" lang="en-US" sz="1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78" name="12 Imagen" descr="FONDO_MOD_2-01.tif"/>
          <p:cNvPicPr/>
          <p:nvPr/>
        </p:nvPicPr>
        <p:blipFill>
          <a:blip r:embed="rId2"/>
          <a:stretch/>
        </p:blipFill>
        <p:spPr>
          <a:xfrm>
            <a:off x="0" y="1079640"/>
            <a:ext cx="5759280" cy="6119640"/>
          </a:xfrm>
          <a:prstGeom prst="rect">
            <a:avLst/>
          </a:prstGeom>
          <a:ln w="0">
            <a:noFill/>
          </a:ln>
        </p:spPr>
      </p:pic>
      <p:sp>
        <p:nvSpPr>
          <p:cNvPr id="379" name="Rectángulo 3"/>
          <p:cNvSpPr/>
          <p:nvPr/>
        </p:nvSpPr>
        <p:spPr>
          <a:xfrm>
            <a:off x="1898640" y="5597640"/>
            <a:ext cx="2793960" cy="7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400" spc="-1" strike="noStrike">
                <a:solidFill>
                  <a:srgbClr val="000000"/>
                </a:solidFill>
                <a:latin typeface="Arial Black"/>
              </a:rPr>
              <a:t>Isabel Canorio Salcedo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400" spc="-1" strike="noStrike">
                <a:solidFill>
                  <a:srgbClr val="000000"/>
                </a:solidFill>
                <a:latin typeface="Arial Black"/>
              </a:rPr>
              <a:t>mail: </a:t>
            </a:r>
            <a:r>
              <a:rPr b="0" lang="es-PE" sz="1400" spc="-1" strike="noStrike" u="sng">
                <a:solidFill>
                  <a:srgbClr val="ea5a0c"/>
                </a:solidFill>
                <a:uFillTx/>
                <a:latin typeface="Arial Black"/>
                <a:hlinkClick r:id="rId3"/>
              </a:rPr>
              <a:t>icanorio@mef.gob.pe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Teléfono: 311 5930 - 3324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0" name="Imagen 5" descr=""/>
          <p:cNvPicPr/>
          <p:nvPr/>
        </p:nvPicPr>
        <p:blipFill>
          <a:blip r:embed="rId4"/>
          <a:stretch/>
        </p:blipFill>
        <p:spPr>
          <a:xfrm>
            <a:off x="1552680" y="2960640"/>
            <a:ext cx="3232080" cy="1052640"/>
          </a:xfrm>
          <a:prstGeom prst="rect">
            <a:avLst/>
          </a:prstGeom>
          <a:ln w="0">
            <a:noFill/>
          </a:ln>
        </p:spPr>
      </p:pic>
      <p:pic>
        <p:nvPicPr>
          <p:cNvPr id="381" name="Imagen 3" descr=""/>
          <p:cNvPicPr/>
          <p:nvPr/>
        </p:nvPicPr>
        <p:blipFill>
          <a:blip r:embed="rId5"/>
          <a:stretch/>
        </p:blipFill>
        <p:spPr>
          <a:xfrm>
            <a:off x="1882800" y="3422520"/>
            <a:ext cx="817560" cy="203400"/>
          </a:xfrm>
          <a:prstGeom prst="rect">
            <a:avLst/>
          </a:prstGeom>
          <a:ln w="0">
            <a:noFill/>
          </a:ln>
        </p:spPr>
      </p:pic>
      <p:pic>
        <p:nvPicPr>
          <p:cNvPr id="382" name="Imagen 3" descr=""/>
          <p:cNvPicPr/>
          <p:nvPr/>
        </p:nvPicPr>
        <p:blipFill>
          <a:blip r:embed="rId6"/>
          <a:stretch/>
        </p:blipFill>
        <p:spPr>
          <a:xfrm>
            <a:off x="2608200" y="3424320"/>
            <a:ext cx="816120" cy="20304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3" descr=""/>
          <p:cNvPicPr/>
          <p:nvPr/>
        </p:nvPicPr>
        <p:blipFill>
          <a:blip r:embed="rId7"/>
          <a:stretch/>
        </p:blipFill>
        <p:spPr>
          <a:xfrm>
            <a:off x="3424320" y="3422520"/>
            <a:ext cx="817560" cy="20340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3" descr=""/>
          <p:cNvPicPr/>
          <p:nvPr/>
        </p:nvPicPr>
        <p:blipFill>
          <a:blip r:embed="rId8"/>
          <a:stretch/>
        </p:blipFill>
        <p:spPr>
          <a:xfrm>
            <a:off x="3875040" y="3422520"/>
            <a:ext cx="817560" cy="203400"/>
          </a:xfrm>
          <a:prstGeom prst="rect">
            <a:avLst/>
          </a:prstGeom>
          <a:ln w="0">
            <a:noFill/>
          </a:ln>
        </p:spPr>
      </p:pic>
      <p:sp>
        <p:nvSpPr>
          <p:cNvPr id="385" name="CuadroTexto 1"/>
          <p:cNvSpPr/>
          <p:nvPr/>
        </p:nvSpPr>
        <p:spPr>
          <a:xfrm>
            <a:off x="2519280" y="3392640"/>
            <a:ext cx="21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Black"/>
              </a:rPr>
              <a:t>GRACIAS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Rectángulo 3"/>
          <p:cNvSpPr/>
          <p:nvPr/>
        </p:nvSpPr>
        <p:spPr>
          <a:xfrm flipV="1">
            <a:off x="2700360" y="2960640"/>
            <a:ext cx="1174680" cy="387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ángulo 2"/>
          <p:cNvSpPr/>
          <p:nvPr/>
        </p:nvSpPr>
        <p:spPr>
          <a:xfrm>
            <a:off x="287280" y="2590920"/>
            <a:ext cx="4967280" cy="27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82650c"/>
                </a:solidFill>
                <a:latin typeface="Arial Black"/>
              </a:rPr>
              <a:t>Condición previa, es que la entidad haya efectuado la Conciliación del Marco Legal y Ejecución de Presupuesto con la DGCP.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82650c"/>
                </a:solidFill>
                <a:latin typeface="Arial Black"/>
              </a:rPr>
              <a:t>Verificar que las cifras de los estados presupuestarios contrasten con los importes conciliados.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82650c"/>
                </a:solidFill>
                <a:latin typeface="Arial Black"/>
              </a:rPr>
              <a:t>Los ingresos es con el criterio de lo percibido y el gastos con el devengado. 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buClr>
                <a:srgbClr val="8265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" spc="-1" strike="noStrike">
              <a:solidFill>
                <a:srgbClr val="000000"/>
              </a:solidFill>
              <a:latin typeface="Arial Black"/>
            </a:endParaRPr>
          </a:p>
          <a:p>
            <a:pPr marL="162000" indent="-162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6" name="Rectángulo redondeado 3" descr=""/>
          <p:cNvPicPr/>
          <p:nvPr/>
        </p:nvPicPr>
        <p:blipFill>
          <a:blip r:embed="rId1"/>
          <a:stretch/>
        </p:blipFill>
        <p:spPr>
          <a:xfrm>
            <a:off x="817560" y="1060560"/>
            <a:ext cx="5052960" cy="8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iagrama 1" descr=""/>
          <p:cNvPicPr/>
          <p:nvPr/>
        </p:nvPicPr>
        <p:blipFill>
          <a:blip r:embed="rId1"/>
          <a:stretch/>
        </p:blipFill>
        <p:spPr>
          <a:xfrm>
            <a:off x="-6480" y="981000"/>
            <a:ext cx="5737320" cy="6370560"/>
          </a:xfrm>
          <a:prstGeom prst="rect">
            <a:avLst/>
          </a:prstGeom>
          <a:ln w="0">
            <a:noFill/>
          </a:ln>
        </p:spPr>
      </p:pic>
      <p:pic>
        <p:nvPicPr>
          <p:cNvPr id="328" name="Imagen 6" descr=""/>
          <p:cNvPicPr/>
          <p:nvPr/>
        </p:nvPicPr>
        <p:blipFill>
          <a:blip r:embed="rId2"/>
          <a:stretch/>
        </p:blipFill>
        <p:spPr>
          <a:xfrm>
            <a:off x="71280" y="4175280"/>
            <a:ext cx="1513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4760"/>
          </a:xfrm>
          <a:prstGeom prst="rect">
            <a:avLst/>
          </a:prstGeom>
          <a:ln w="0">
            <a:noFill/>
          </a:ln>
        </p:spPr>
      </p:pic>
      <p:sp>
        <p:nvSpPr>
          <p:cNvPr id="330" name="14 Llamada rectangular redondeada"/>
          <p:cNvSpPr/>
          <p:nvPr/>
        </p:nvSpPr>
        <p:spPr>
          <a:xfrm flipH="1">
            <a:off x="2462040" y="6480000"/>
            <a:ext cx="2578320" cy="652680"/>
          </a:xfrm>
          <a:prstGeom prst="wedgeRoundRectCallout">
            <a:avLst>
              <a:gd name="adj1" fmla="val -55648"/>
              <a:gd name="adj2" fmla="val -79337"/>
              <a:gd name="adj3" fmla="val 16667"/>
            </a:avLst>
          </a:prstGeom>
          <a:solidFill>
            <a:srgbClr val="f6c6c6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 Black"/>
              </a:rPr>
              <a:t>PIM – RO  =  SD 8501  +  SD 8201</a:t>
            </a:r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1" i="1" lang="es-MX" sz="1000" spc="-1" strike="noStrike">
                <a:solidFill>
                  <a:srgbClr val="000000"/>
                </a:solidFill>
                <a:latin typeface="Arial Black"/>
              </a:rPr>
              <a:t>SD 8501  -   SA  8201</a:t>
            </a:r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agen 6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989760"/>
          </a:xfrm>
          <a:prstGeom prst="rect">
            <a:avLst/>
          </a:prstGeom>
          <a:ln w="0">
            <a:noFill/>
          </a:ln>
        </p:spPr>
      </p:pic>
      <p:sp>
        <p:nvSpPr>
          <p:cNvPr id="332" name="14 Llamada rectangular redondeada"/>
          <p:cNvSpPr/>
          <p:nvPr/>
        </p:nvSpPr>
        <p:spPr>
          <a:xfrm flipH="1">
            <a:off x="2232000" y="6624720"/>
            <a:ext cx="2735280" cy="503280"/>
          </a:xfrm>
          <a:prstGeom prst="wedgeRoundRectCallout">
            <a:avLst>
              <a:gd name="adj1" fmla="val -61458"/>
              <a:gd name="adj2" fmla="val -43685"/>
              <a:gd name="adj3" fmla="val 16667"/>
            </a:avLst>
          </a:prstGeom>
          <a:solidFill>
            <a:srgbClr val="f6c6c6"/>
          </a:solidFill>
          <a:ln w="12600">
            <a:solidFill>
              <a:srgbClr val="8f16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 Black"/>
              </a:rPr>
              <a:t>PIM = SA 8301 + SA 8401 + SA 8601</a:t>
            </a:r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Imagen 1" descr=""/>
          <p:cNvPicPr/>
          <p:nvPr/>
        </p:nvPicPr>
        <p:blipFill>
          <a:blip r:embed="rId1"/>
          <a:stretch/>
        </p:blipFill>
        <p:spPr>
          <a:xfrm>
            <a:off x="0" y="66600"/>
            <a:ext cx="5759280" cy="7648560"/>
          </a:xfrm>
          <a:prstGeom prst="rect">
            <a:avLst/>
          </a:prstGeom>
          <a:ln w="0">
            <a:noFill/>
          </a:ln>
        </p:spPr>
      </p:pic>
      <p:grpSp>
        <p:nvGrpSpPr>
          <p:cNvPr id="334" name="14 Llamada rectangular redondeada"/>
          <p:cNvGrpSpPr/>
          <p:nvPr/>
        </p:nvGrpSpPr>
        <p:grpSpPr>
          <a:xfrm>
            <a:off x="3395520" y="165240"/>
            <a:ext cx="2487600" cy="925200"/>
            <a:chOff x="3395520" y="165240"/>
            <a:chExt cx="2487600" cy="925200"/>
          </a:xfrm>
        </p:grpSpPr>
        <p:pic>
          <p:nvPicPr>
            <p:cNvPr id="335" name="1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3395520" y="165240"/>
              <a:ext cx="248760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546360" y="307800"/>
              <a:ext cx="21812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1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 Black"/>
                </a:rPr>
                <a:t>NOTA  DE  ANULACIÓN SIN MARCO  PRESUPUESTAL</a:t>
              </a:r>
              <a:endParaRPr b="1" i="1" lang="en-US" sz="11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7" name="Rectángulo redondeado 4"/>
          <p:cNvSpPr/>
          <p:nvPr/>
        </p:nvSpPr>
        <p:spPr>
          <a:xfrm>
            <a:off x="1395360" y="4307040"/>
            <a:ext cx="3533760" cy="282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n 1" descr=""/>
          <p:cNvPicPr/>
          <p:nvPr/>
        </p:nvPicPr>
        <p:blipFill>
          <a:blip r:embed="rId1"/>
          <a:stretch/>
        </p:blipFill>
        <p:spPr>
          <a:xfrm>
            <a:off x="0" y="66600"/>
            <a:ext cx="5759280" cy="7209000"/>
          </a:xfrm>
          <a:prstGeom prst="rect">
            <a:avLst/>
          </a:prstGeom>
          <a:ln w="0">
            <a:noFill/>
          </a:ln>
        </p:spPr>
      </p:pic>
      <p:sp>
        <p:nvSpPr>
          <p:cNvPr id="339" name="Elipse 2"/>
          <p:cNvSpPr/>
          <p:nvPr/>
        </p:nvSpPr>
        <p:spPr>
          <a:xfrm>
            <a:off x="4505400" y="5861160"/>
            <a:ext cx="919080" cy="3538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0" name="14 Llamada rectangular redondeada"/>
          <p:cNvGrpSpPr/>
          <p:nvPr/>
        </p:nvGrpSpPr>
        <p:grpSpPr>
          <a:xfrm>
            <a:off x="3535200" y="237960"/>
            <a:ext cx="2316240" cy="792360"/>
            <a:chOff x="3535200" y="237960"/>
            <a:chExt cx="2316240" cy="792360"/>
          </a:xfrm>
        </p:grpSpPr>
        <p:pic>
          <p:nvPicPr>
            <p:cNvPr id="341" name="1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3535200" y="237960"/>
              <a:ext cx="23162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683160" y="372960"/>
              <a:ext cx="1927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 Black"/>
                </a:rPr>
                <a:t>MAYOR EJECUCIÓN   QUE  EL PIM</a:t>
              </a: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magen 1" descr=""/>
          <p:cNvPicPr/>
          <p:nvPr/>
        </p:nvPicPr>
        <p:blipFill>
          <a:blip r:embed="rId1"/>
          <a:stretch/>
        </p:blipFill>
        <p:spPr>
          <a:xfrm>
            <a:off x="0" y="-287280"/>
            <a:ext cx="5759280" cy="7419960"/>
          </a:xfrm>
          <a:prstGeom prst="rect">
            <a:avLst/>
          </a:prstGeom>
          <a:ln w="0">
            <a:noFill/>
          </a:ln>
        </p:spPr>
      </p:pic>
      <p:grpSp>
        <p:nvGrpSpPr>
          <p:cNvPr id="344" name="4 Llamada rectangular redondeada"/>
          <p:cNvGrpSpPr/>
          <p:nvPr/>
        </p:nvGrpSpPr>
        <p:grpSpPr>
          <a:xfrm>
            <a:off x="-122400" y="6364440"/>
            <a:ext cx="2841840" cy="731520"/>
            <a:chOff x="-122400" y="6364440"/>
            <a:chExt cx="2841840" cy="731520"/>
          </a:xfrm>
        </p:grpSpPr>
        <p:pic>
          <p:nvPicPr>
            <p:cNvPr id="345" name="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-122400" y="6364440"/>
              <a:ext cx="284184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7640" y="6624720"/>
              <a:ext cx="2562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 Black"/>
                </a:rPr>
                <a:t>TOTAL GENERAL  - RO =   SD 8501</a:t>
              </a:r>
              <a:endParaRPr b="1" i="1" lang="en-US" sz="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47" name="4 Llamada rectangular redondeada"/>
          <p:cNvGrpSpPr/>
          <p:nvPr/>
        </p:nvGrpSpPr>
        <p:grpSpPr>
          <a:xfrm>
            <a:off x="3187800" y="6467400"/>
            <a:ext cx="2371680" cy="695520"/>
            <a:chOff x="3187800" y="6467400"/>
            <a:chExt cx="2371680" cy="695520"/>
          </a:xfrm>
        </p:grpSpPr>
        <p:pic>
          <p:nvPicPr>
            <p:cNvPr id="348" name="4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3187800" y="6467400"/>
              <a:ext cx="23716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25680" y="6694560"/>
              <a:ext cx="2057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9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 Black"/>
                </a:rPr>
                <a:t>SDO.  ACREEDOR   8501</a:t>
              </a:r>
              <a:endParaRPr b="1" i="1" lang="en-US" sz="9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Canorio Salcedo, Jacinta Isabel</cp:lastModifiedBy>
  <cp:lastPrinted>2015-07-21T00:33:37Z</cp:lastPrinted>
  <dcterms:modified xsi:type="dcterms:W3CDTF">2015-11-24T20:03:34Z</dcterms:modified>
  <cp:revision>1609</cp:revision>
  <dc:subject/>
  <dc:title>Presentación de PowerPoint</dc:title>
</cp:coreProperties>
</file>